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0.jpeg" ContentType="image/jpeg"/>
  <Override PartName="/ppt/media/image30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image5.png" ContentType="image/png"/>
  <Override PartName="/ppt/media/image35.png" ContentType="image/png"/>
  <Override PartName="/ppt/media/image2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AAF-241B-441D-9930-81C7EB20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7631-7DB1-4E8C-90A1-C81C7F50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3BCF-BD2E-43E6-A100-DABD1910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BBE-F9F9-4232-8DCD-324D8B122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AB60-C321-4BE0-BCF1-939A08BC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543F-7687-426C-B9A4-B943ABBE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831B-9C1C-47B4-87EA-7FD934BC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006D-4AE7-4900-8381-03BADCAD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3759-EBCA-40FC-B0BC-D7C5254B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8A74-6913-4438-8930-8F617AAC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3A2E-B51A-41BD-86D0-BC344E74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490-170A-4CE8-89FE-EA5F6EA7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C6BE-FD80-4EA3-A010-ED2FB77D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1C4A-9C25-45A5-B581-E054760B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9AE6-8E74-4757-B1D7-7EEEEFBA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6EB4-0C72-471B-AA10-ED8F3274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9289-8BE2-490E-8D9F-694E788F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2D8-0985-475A-97E0-E6D920AE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C27-EA82-4FE6-A8E0-F24C6CCD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ABA-56B4-4690-A482-B313A7D7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1033-55A4-4EB2-9BD5-EED79928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4DE-3F44-414D-AAD5-1EFFE396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8AFE-459D-4EDB-ADE1-262F4C5A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AE24-7E54-49EB-B028-2C5ABB7F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8BEE-5E56-4983-A066-962A6C061B4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6C5A-A204-44C2-863B-7A1ED4AD79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4.png"/><Relationship Id="rId14" Type="http://schemas.openxmlformats.org/officeDocument/2006/relationships/image" Target="../media/image35.png"/><Relationship Id="rId15" Type="http://schemas.openxmlformats.org/officeDocument/2006/relationships/image" Target="../media/image36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684360" y="966240"/>
            <a:ext cx="7200720" cy="33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пециальные условия для  получения образования студент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5742a"/>
                </a:solidFill>
                <a:latin typeface="Arial"/>
              </a:rPr>
              <a:t>с нарушениями сл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785880"/>
            <a:ext cx="8642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увеличения срока получения образования студентов с нарушениями слуха, но не более чем на 6 месяцев по профессиям СПО, на 10 месяцев по специальностям СП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методов обучения, исходя из их доступности для обучающихся с ОВЗ, использование практико-ориентированного (дуального) обучения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учебных планов и индивидуальных граф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учении  студентов с нарушениями слуха электронное обучение и дистанционные образовательные технологии должны предусматривать возможность приема - передачи информации в доступных для них форм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формировании образовательной программы образовательная организация должна предусматривать включение адаптационных дисциплин, обеспечивающих коррекцию нарушений развития и социальную адапта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бучающихся с нарушениями слуха выбор мест практик должен учитывать состояние здоровья и требования по доступ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 должны быть обеспечены печатными и (или) электронными образовательными ресурсами в формах, адаптированных к ограничениям их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текущего контроля успеваемости, промежуточной и государственной итоговой аттестации обучающихся с учетом индивидуальных особенност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Требования к адаптации образовательных программ 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Методическая основа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разработки</a:t>
            </a:r>
            <a:br>
              <a:rPr sz="2400"/>
            </a:br>
            <a:r>
              <a:rPr b="1" i="1" lang="ru-RU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адаптированной образовательной программы</a:t>
            </a:r>
            <a:br>
              <a:rPr sz="2400"/>
            </a:b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428560"/>
            <a:ext cx="82296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ПИСЬМО" МИНПРОСВЕЩЕНИЯ РОССИИ ОТ 09.11.2022 N 05-1999 "О НАПРАВЛЕНИИ ИНФОРМАЦИИ" (ВМЕСТЕ С "МЕТОДИЧЕСКИМИ РЕКОМЕНДАЦИЯМИ ПО РАЗРАБОТКЕ (АКТУАЛИЗАЦИИ) И РЕАЛИЗАЦИИ ПРИМЕРНЫХ АДАПТИРОВАННЫХ ОБРАЗОВАТЕЛЬНЫХ ПРОГРАММ СРЕДНЕГО ПРОФЕССИОНАЛЬНОГО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Варианты организации образовательного процесса</a:t>
            </a:r>
            <a:br>
              <a:rPr sz="2000"/>
            </a:br>
            <a:r>
              <a:rPr b="1" lang="ru-RU" sz="2000" spc="-1" strike="noStrike">
                <a:solidFill>
                  <a:srgbClr val="006633"/>
                </a:solidFill>
                <a:latin typeface="Garamond"/>
              </a:rPr>
              <a:t>по АОП СПО для инвалидов и лиц с ОВЗ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ая АОП СПО для группы по одной ноз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15 чел. в группе с разными видами нозолог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нескольких обучающихся каждого вида нозологий (нарушения слуха, нарушения зрения и т.д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ИАНТ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й группе (до 25 чел.) обучаются несколько студентов с инвалидов и/или лиц с ОВ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П СПО для каждого обучающегося в соответствии с нозологией &lt;*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Рекомендации 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499680"/>
            <a:ext cx="82296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е внимания, разговаривая, смотрите на лицо слушающ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 мимики, жестов, чёткой артикуля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я простые, коротк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объяснении профессиональных терминов – проведение словарной работ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звуковой информации пись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ь на доске используемых термин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знообраз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гляд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2357280"/>
            <a:ext cx="8507160" cy="4500720"/>
            <a:chOff x="0" y="2357280"/>
            <a:chExt cx="8507160" cy="4500720"/>
          </a:xfrm>
        </p:grpSpPr>
        <p:sp>
          <p:nvSpPr>
            <p:cNvPr id="126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76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40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"/>
            <p:cNvPicPr/>
            <p:nvPr/>
          </p:nvPicPr>
          <p:blipFill>
            <a:blip r:embed="rId3"/>
            <a:stretch/>
          </p:blipFill>
          <p:spPr>
            <a:xfrm>
              <a:off x="1087560" y="2357280"/>
              <a:ext cx="7419600" cy="41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"/>
            <p:cNvPicPr/>
            <p:nvPr/>
          </p:nvPicPr>
          <p:blipFill>
            <a:blip r:embed="rId4"/>
            <a:stretch/>
          </p:blipFill>
          <p:spPr>
            <a:xfrm>
              <a:off x="1151640" y="2421360"/>
              <a:ext cx="7236720" cy="39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9"/>
            <p:cNvSpPr/>
            <p:nvPr/>
          </p:nvSpPr>
          <p:spPr>
            <a:xfrm>
              <a:off x="1132920" y="2402280"/>
              <a:ext cx="7274880" cy="4015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0" y="214200"/>
            <a:ext cx="8869320" cy="1857600"/>
            <a:chOff x="0" y="214200"/>
            <a:chExt cx="8869320" cy="1857600"/>
          </a:xfrm>
        </p:grpSpPr>
        <p:sp>
          <p:nvSpPr>
            <p:cNvPr id="135" name="Rectangle 13"/>
            <p:cNvSpPr/>
            <p:nvPr/>
          </p:nvSpPr>
          <p:spPr>
            <a:xfrm>
              <a:off x="0" y="214200"/>
              <a:ext cx="8441280" cy="126684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12" descr=""/>
            <p:cNvPicPr/>
            <p:nvPr/>
          </p:nvPicPr>
          <p:blipFill>
            <a:blip r:embed="rId5"/>
            <a:stretch/>
          </p:blipFill>
          <p:spPr>
            <a:xfrm>
              <a:off x="7830000" y="754920"/>
              <a:ext cx="1039320" cy="131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1"/>
            <p:cNvSpPr/>
            <p:nvPr/>
          </p:nvSpPr>
          <p:spPr>
            <a:xfrm>
              <a:off x="0" y="214200"/>
              <a:ext cx="886932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000080" y="21852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ДЕМОНСТРАЦИОННЫЕ РОЛИКИ С СУБТИТ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168120"/>
            <a:ext cx="9144000" cy="6689880"/>
            <a:chOff x="0" y="168120"/>
            <a:chExt cx="9144000" cy="6689880"/>
          </a:xfrm>
        </p:grpSpPr>
        <p:sp>
          <p:nvSpPr>
            <p:cNvPr id="140" name="AutoShape 3"/>
            <p:cNvSpPr/>
            <p:nvPr/>
          </p:nvSpPr>
          <p:spPr>
            <a:xfrm>
              <a:off x="499680" y="594468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7" descr="D:\Инклюзия\Повышение квалификации\digimaster5000.jpg"/>
            <p:cNvPicPr/>
            <p:nvPr/>
          </p:nvPicPr>
          <p:blipFill>
            <a:blip r:embed="rId3"/>
            <a:stretch/>
          </p:blipFill>
          <p:spPr>
            <a:xfrm>
              <a:off x="0" y="3621600"/>
              <a:ext cx="1836360" cy="28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8" descr="D:\Инклюзия\Повышение квалификации\IMG_20170116_182942.png"/>
            <p:cNvPicPr/>
            <p:nvPr/>
          </p:nvPicPr>
          <p:blipFill>
            <a:blip r:embed="rId4"/>
            <a:stretch/>
          </p:blipFill>
          <p:spPr>
            <a:xfrm>
              <a:off x="1979280" y="3506040"/>
              <a:ext cx="1376640" cy="294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9" descr=""/>
            <p:cNvPicPr/>
            <p:nvPr/>
          </p:nvPicPr>
          <p:blipFill>
            <a:blip r:embed="rId5"/>
            <a:stretch/>
          </p:blipFill>
          <p:spPr>
            <a:xfrm>
              <a:off x="3497400" y="4076280"/>
              <a:ext cx="3153240" cy="127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0" descr="C:\Users\Gribanova\Desktop\09.10.2017 Фото оборудования по инклюзии\DSC_1240.JPG"/>
            <p:cNvPicPr/>
            <p:nvPr/>
          </p:nvPicPr>
          <p:blipFill>
            <a:blip r:embed="rId6"/>
            <a:stretch/>
          </p:blipFill>
          <p:spPr>
            <a:xfrm>
              <a:off x="3634560" y="1535400"/>
              <a:ext cx="2882160" cy="18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11" descr="D:\Инклюзия\Повышение квалификации\krust-indigo.jpg"/>
            <p:cNvPicPr/>
            <p:nvPr/>
          </p:nvPicPr>
          <p:blipFill>
            <a:blip r:embed="rId7"/>
            <a:stretch/>
          </p:blipFill>
          <p:spPr>
            <a:xfrm>
              <a:off x="6477120" y="1489680"/>
              <a:ext cx="26668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2" descr="D:\Инклюзия\Повышение квалификации\2018\vizualno-akusticheskoe-tablo-mng.jpg"/>
            <p:cNvPicPr/>
            <p:nvPr/>
          </p:nvPicPr>
          <p:blipFill>
            <a:blip r:embed="rId8"/>
            <a:stretch/>
          </p:blipFill>
          <p:spPr>
            <a:xfrm>
              <a:off x="7092360" y="3365640"/>
              <a:ext cx="1655280" cy="135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13" descr="D:\Инклюзия\Повышение квалификации\2018\led-ticker-full_2.jpg"/>
            <p:cNvPicPr/>
            <p:nvPr/>
          </p:nvPicPr>
          <p:blipFill>
            <a:blip r:embed="rId9"/>
            <a:stretch/>
          </p:blipFill>
          <p:spPr>
            <a:xfrm>
              <a:off x="6228000" y="4996440"/>
              <a:ext cx="2286000" cy="17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14"/>
            <p:cNvSpPr/>
            <p:nvPr/>
          </p:nvSpPr>
          <p:spPr>
            <a:xfrm>
              <a:off x="293760" y="168120"/>
              <a:ext cx="8639640" cy="74412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Технические средства обуч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15" descr=""/>
            <p:cNvPicPr/>
            <p:nvPr/>
          </p:nvPicPr>
          <p:blipFill>
            <a:blip r:embed="rId10"/>
            <a:stretch/>
          </p:blipFill>
          <p:spPr>
            <a:xfrm>
              <a:off x="7902000" y="763560"/>
              <a:ext cx="1039320" cy="103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16"/>
          <p:cNvGrpSpPr/>
          <p:nvPr/>
        </p:nvGrpSpPr>
        <p:grpSpPr>
          <a:xfrm>
            <a:off x="96840" y="1469880"/>
            <a:ext cx="3258720" cy="1789200"/>
            <a:chOff x="96840" y="1469880"/>
            <a:chExt cx="3258720" cy="1789200"/>
          </a:xfrm>
        </p:grpSpPr>
        <p:pic>
          <p:nvPicPr>
            <p:cNvPr id="154" name="Picture 17" descr="D:\Инклюзия\1\Phonak-Roger-Inspiro.jpg"/>
            <p:cNvPicPr/>
            <p:nvPr/>
          </p:nvPicPr>
          <p:blipFill>
            <a:blip r:embed="rId11"/>
            <a:stretch/>
          </p:blipFill>
          <p:spPr>
            <a:xfrm>
              <a:off x="96840" y="1469880"/>
              <a:ext cx="1041480" cy="17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8" descr="D:\Инклюзия\1\orig.jpg"/>
            <p:cNvPicPr/>
            <p:nvPr/>
          </p:nvPicPr>
          <p:blipFill>
            <a:blip r:embed="rId12"/>
            <a:stretch/>
          </p:blipFill>
          <p:spPr>
            <a:xfrm>
              <a:off x="1044720" y="1481760"/>
              <a:ext cx="1256760" cy="177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9" descr="D:\Инклюзия\1\11840.jpg"/>
            <p:cNvPicPr/>
            <p:nvPr/>
          </p:nvPicPr>
          <p:blipFill>
            <a:blip r:embed="rId13"/>
            <a:stretch/>
          </p:blipFill>
          <p:spPr>
            <a:xfrm>
              <a:off x="2301480" y="1527480"/>
              <a:ext cx="1054080" cy="165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378000"/>
            <a:ext cx="9143640" cy="6480000"/>
            <a:chOff x="0" y="378000"/>
            <a:chExt cx="9143640" cy="6480000"/>
          </a:xfrm>
        </p:grpSpPr>
        <p:sp>
          <p:nvSpPr>
            <p:cNvPr id="158" name="AutoShape 3"/>
            <p:cNvSpPr/>
            <p:nvPr/>
          </p:nvSpPr>
          <p:spPr>
            <a:xfrm>
              <a:off x="499680" y="5945040"/>
              <a:ext cx="4898520" cy="9129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"/>
            <p:cNvSpPr/>
            <p:nvPr/>
          </p:nvSpPr>
          <p:spPr>
            <a:xfrm>
              <a:off x="485640" y="5938560"/>
              <a:ext cx="3654360" cy="919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789160"/>
              <a:ext cx="3398400" cy="10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784120"/>
              <a:ext cx="3371040" cy="107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7" descr=""/>
            <p:cNvPicPr/>
            <p:nvPr/>
          </p:nvPicPr>
          <p:blipFill>
            <a:blip r:embed="rId3"/>
            <a:stretch/>
          </p:blipFill>
          <p:spPr>
            <a:xfrm>
              <a:off x="827280" y="1628640"/>
              <a:ext cx="7873200" cy="47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8" descr=""/>
            <p:cNvPicPr/>
            <p:nvPr/>
          </p:nvPicPr>
          <p:blipFill>
            <a:blip r:embed="rId4"/>
            <a:stretch/>
          </p:blipFill>
          <p:spPr>
            <a:xfrm>
              <a:off x="150480" y="378000"/>
              <a:ext cx="865080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9" descr=""/>
            <p:cNvPicPr/>
            <p:nvPr/>
          </p:nvPicPr>
          <p:blipFill>
            <a:blip r:embed="rId5"/>
            <a:stretch/>
          </p:blipFill>
          <p:spPr>
            <a:xfrm>
              <a:off x="8104320" y="981000"/>
              <a:ext cx="1039320" cy="103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785880" y="523080"/>
            <a:ext cx="7929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С</a:t>
            </a:r>
            <a:r>
              <a:rPr b="0" i="1" lang="ru-RU" sz="3200" spc="-1" strike="noStrike">
                <a:solidFill>
                  <a:srgbClr val="0033cc"/>
                </a:solidFill>
                <a:latin typeface="Times New Roman"/>
                <a:ea typeface="Microsoft Sans Serif"/>
              </a:rPr>
              <a:t>пециальные технические сред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система линейног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Microsoft Sans Serif"/>
              </a:rPr>
              <a:t> </a:t>
            </a: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акустического изл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дио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беспроводная технология передачи звука (FM-систем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комплекты электроакустического и звукоусиливающего оборудования с комбинированными элементами проводных и беспроводных систем на базе профессиональных усил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а-компьюте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мультимедийный проект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интерактивные и сенсорные до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image39.jpeg" descr=""/>
          <p:cNvPicPr/>
          <p:nvPr/>
        </p:nvPicPr>
        <p:blipFill>
          <a:blip r:embed="rId1"/>
          <a:stretch/>
        </p:blipFill>
        <p:spPr>
          <a:xfrm>
            <a:off x="282600" y="2001960"/>
            <a:ext cx="8578800" cy="28540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"/>
          <p:cNvSpPr/>
          <p:nvPr/>
        </p:nvSpPr>
        <p:spPr>
          <a:xfrm>
            <a:off x="1000080" y="57384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ЛАНШЕТЫ ДЛЯ ОБЩЕНИЯ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b4976"/>
                </a:solidFill>
                <a:latin typeface="Arial"/>
                <a:ea typeface="Calibri"/>
              </a:rPr>
              <a:t>ПРОГРАММА ИСТОК СИНХ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928800" y="1214280"/>
            <a:ext cx="7428960" cy="4643640"/>
            <a:chOff x="928800" y="1214280"/>
            <a:chExt cx="7428960" cy="4643640"/>
          </a:xfrm>
        </p:grpSpPr>
        <p:sp>
          <p:nvSpPr>
            <p:cNvPr id="169" name="AutoShape 3"/>
            <p:cNvSpPr/>
            <p:nvPr/>
          </p:nvSpPr>
          <p:spPr>
            <a:xfrm>
              <a:off x="1341360" y="5174280"/>
              <a:ext cx="4045320" cy="6832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"/>
            <p:cNvSpPr/>
            <p:nvPr/>
          </p:nvSpPr>
          <p:spPr>
            <a:xfrm>
              <a:off x="1329840" y="5169600"/>
              <a:ext cx="3017880" cy="688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928800" y="5057640"/>
              <a:ext cx="280656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6" descr=""/>
            <p:cNvPicPr/>
            <p:nvPr/>
          </p:nvPicPr>
          <p:blipFill>
            <a:blip r:embed="rId2"/>
            <a:stretch/>
          </p:blipFill>
          <p:spPr>
            <a:xfrm>
              <a:off x="928800" y="5054040"/>
              <a:ext cx="2783880" cy="80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7" descr=""/>
            <p:cNvPicPr/>
            <p:nvPr/>
          </p:nvPicPr>
          <p:blipFill>
            <a:blip r:embed="rId3"/>
            <a:stretch/>
          </p:blipFill>
          <p:spPr>
            <a:xfrm>
              <a:off x="3764160" y="3810960"/>
              <a:ext cx="170424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Freeform 8"/>
            <p:cNvSpPr/>
            <p:nvPr/>
          </p:nvSpPr>
          <p:spPr>
            <a:xfrm>
              <a:off x="3764160" y="3810960"/>
              <a:ext cx="1704240" cy="15447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5" name="Picture 9" descr=""/>
            <p:cNvPicPr/>
            <p:nvPr/>
          </p:nvPicPr>
          <p:blipFill>
            <a:blip r:embed="rId4"/>
            <a:stretch/>
          </p:blipFill>
          <p:spPr>
            <a:xfrm>
              <a:off x="2051280" y="4376160"/>
              <a:ext cx="161856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Freeform 10"/>
            <p:cNvSpPr/>
            <p:nvPr/>
          </p:nvSpPr>
          <p:spPr>
            <a:xfrm>
              <a:off x="2051280" y="4376160"/>
              <a:ext cx="161856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11" descr=""/>
            <p:cNvPicPr/>
            <p:nvPr/>
          </p:nvPicPr>
          <p:blipFill>
            <a:blip r:embed="rId5"/>
            <a:stretch/>
          </p:blipFill>
          <p:spPr>
            <a:xfrm>
              <a:off x="1457280" y="417924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Freeform 12"/>
            <p:cNvSpPr/>
            <p:nvPr/>
          </p:nvSpPr>
          <p:spPr>
            <a:xfrm>
              <a:off x="1457280" y="417924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13" descr=""/>
            <p:cNvPicPr/>
            <p:nvPr/>
          </p:nvPicPr>
          <p:blipFill>
            <a:blip r:embed="rId6"/>
            <a:stretch/>
          </p:blipFill>
          <p:spPr>
            <a:xfrm>
              <a:off x="2462040" y="3127680"/>
              <a:ext cx="1387080" cy="10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14"/>
            <p:cNvSpPr/>
            <p:nvPr/>
          </p:nvSpPr>
          <p:spPr>
            <a:xfrm>
              <a:off x="2462040" y="3127680"/>
              <a:ext cx="1387080" cy="100548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5" descr=""/>
            <p:cNvPicPr/>
            <p:nvPr/>
          </p:nvPicPr>
          <p:blipFill>
            <a:blip r:embed="rId7"/>
            <a:stretch/>
          </p:blipFill>
          <p:spPr>
            <a:xfrm>
              <a:off x="19501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Freeform 16"/>
            <p:cNvSpPr/>
            <p:nvPr/>
          </p:nvSpPr>
          <p:spPr>
            <a:xfrm>
              <a:off x="19501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Picture 17" descr=""/>
            <p:cNvPicPr/>
            <p:nvPr/>
          </p:nvPicPr>
          <p:blipFill>
            <a:blip r:embed="rId8"/>
            <a:stretch/>
          </p:blipFill>
          <p:spPr>
            <a:xfrm>
              <a:off x="3700080" y="2343600"/>
              <a:ext cx="784800" cy="142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18"/>
            <p:cNvSpPr/>
            <p:nvPr/>
          </p:nvSpPr>
          <p:spPr>
            <a:xfrm>
              <a:off x="3700080" y="2343600"/>
              <a:ext cx="784800" cy="14234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19" descr=""/>
            <p:cNvPicPr/>
            <p:nvPr/>
          </p:nvPicPr>
          <p:blipFill>
            <a:blip r:embed="rId9"/>
            <a:stretch/>
          </p:blipFill>
          <p:spPr>
            <a:xfrm>
              <a:off x="324288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Freeform 20"/>
            <p:cNvSpPr/>
            <p:nvPr/>
          </p:nvSpPr>
          <p:spPr>
            <a:xfrm>
              <a:off x="324288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21" descr=""/>
            <p:cNvPicPr/>
            <p:nvPr/>
          </p:nvPicPr>
          <p:blipFill>
            <a:blip r:embed="rId10"/>
            <a:stretch/>
          </p:blipFill>
          <p:spPr>
            <a:xfrm>
              <a:off x="4766760" y="2341440"/>
              <a:ext cx="807480" cy="14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Freeform 22"/>
            <p:cNvSpPr/>
            <p:nvPr/>
          </p:nvSpPr>
          <p:spPr>
            <a:xfrm>
              <a:off x="4766760" y="2341440"/>
              <a:ext cx="807480" cy="1428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23" descr=""/>
            <p:cNvPicPr/>
            <p:nvPr/>
          </p:nvPicPr>
          <p:blipFill>
            <a:blip r:embed="rId11"/>
            <a:stretch/>
          </p:blipFill>
          <p:spPr>
            <a:xfrm>
              <a:off x="4840200" y="1950840"/>
              <a:ext cx="1193400" cy="86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Freeform 24"/>
            <p:cNvSpPr/>
            <p:nvPr/>
          </p:nvSpPr>
          <p:spPr>
            <a:xfrm>
              <a:off x="4840200" y="1950840"/>
              <a:ext cx="1193400" cy="86616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25" descr=""/>
            <p:cNvPicPr/>
            <p:nvPr/>
          </p:nvPicPr>
          <p:blipFill>
            <a:blip r:embed="rId12"/>
            <a:stretch/>
          </p:blipFill>
          <p:spPr>
            <a:xfrm>
              <a:off x="5391360" y="3126600"/>
              <a:ext cx="1420920" cy="101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Freeform 26"/>
            <p:cNvSpPr/>
            <p:nvPr/>
          </p:nvSpPr>
          <p:spPr>
            <a:xfrm>
              <a:off x="5391360" y="3126600"/>
              <a:ext cx="1420920" cy="10148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27" descr=""/>
            <p:cNvPicPr/>
            <p:nvPr/>
          </p:nvPicPr>
          <p:blipFill>
            <a:blip r:embed="rId13"/>
            <a:stretch/>
          </p:blipFill>
          <p:spPr>
            <a:xfrm>
              <a:off x="6131520" y="2801880"/>
              <a:ext cx="1193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Freeform 28"/>
            <p:cNvSpPr/>
            <p:nvPr/>
          </p:nvSpPr>
          <p:spPr>
            <a:xfrm>
              <a:off x="6131520" y="2801880"/>
              <a:ext cx="119340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29" descr=""/>
            <p:cNvPicPr/>
            <p:nvPr/>
          </p:nvPicPr>
          <p:blipFill>
            <a:blip r:embed="rId14"/>
            <a:stretch/>
          </p:blipFill>
          <p:spPr>
            <a:xfrm>
              <a:off x="5564880" y="4376160"/>
              <a:ext cx="1658520" cy="44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Freeform 30"/>
            <p:cNvSpPr/>
            <p:nvPr/>
          </p:nvSpPr>
          <p:spPr>
            <a:xfrm>
              <a:off x="5564880" y="4376160"/>
              <a:ext cx="1658520" cy="440640"/>
            </a:xfrm>
            <a:prstGeom prst="pie">
              <a:avLst/>
            </a:prstGeom>
            <a:noFill/>
            <a:ln w="648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31" descr=""/>
            <p:cNvPicPr/>
            <p:nvPr/>
          </p:nvPicPr>
          <p:blipFill>
            <a:blip r:embed="rId15"/>
            <a:stretch/>
          </p:blipFill>
          <p:spPr>
            <a:xfrm>
              <a:off x="6624720" y="4179240"/>
              <a:ext cx="11944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Freeform 32"/>
            <p:cNvSpPr/>
            <p:nvPr/>
          </p:nvSpPr>
          <p:spPr>
            <a:xfrm>
              <a:off x="6624720" y="4179240"/>
              <a:ext cx="1194480" cy="865080"/>
            </a:xfrm>
            <a:prstGeom prst="pie">
              <a:avLst/>
            </a:prstGeom>
            <a:noFill/>
            <a:ln w="12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33" descr=""/>
            <p:cNvPicPr/>
            <p:nvPr/>
          </p:nvPicPr>
          <p:blipFill>
            <a:blip r:embed="rId16"/>
            <a:stretch/>
          </p:blipFill>
          <p:spPr>
            <a:xfrm>
              <a:off x="7499520" y="1214280"/>
              <a:ext cx="858240" cy="777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Особые образовательные потребности студентов с нарушениями слуха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Image 1" descr="https://ucarecdn.com/476ede8a-f952-4974-b5bb-f361647723d5/"/>
          <p:cNvPicPr/>
          <p:nvPr/>
        </p:nvPicPr>
        <p:blipFill>
          <a:blip r:embed="rId1"/>
          <a:stretch/>
        </p:blipFill>
        <p:spPr>
          <a:xfrm>
            <a:off x="536400" y="1600200"/>
            <a:ext cx="8071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642960" y="807840"/>
            <a:ext cx="771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необходимость развития и использования остаточного слуха в образовательных, познавательных и коммуникатив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создание условий и возможностей для эффективного использования студентами данной категории слухо-зрительного, слухового и зрительного восприятия обращенной речи говорящего человека и различных форм коммун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восполнение недостатка знаний об окружающем мире, связанного с ограничением возмож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оциальной компетентности и навыков поведения в инклюзивном образовательном пространстве колледж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развитие потребностно-мотивационной и эмоционально-волевой сфе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12121"/>
              </a:buClr>
              <a:buFont typeface="Times New Roman"/>
              <a:buChar char="•"/>
              <a:tabLst>
                <a:tab algn="l" pos="293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  </a:t>
            </a:r>
            <a:r>
              <a:rPr b="0" lang="ru-RU" sz="2000" spc="-1" strike="noStrike">
                <a:solidFill>
                  <a:srgbClr val="212121"/>
                </a:solidFill>
                <a:latin typeface="Times New Roman"/>
                <a:ea typeface="Microsoft Sans Serif"/>
              </a:rPr>
              <a:t>формирование способности к максимально независимой жизни в обществе через профессиональное самоопределение, социально-трудовую адаптацию, активную и оптимистическую жизненную позици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Педагогические принципы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1428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использования информационных техноло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785880" y="2746440"/>
            <a:ext cx="7714800" cy="3754440"/>
            <a:chOff x="785880" y="2746440"/>
            <a:chExt cx="7714800" cy="3754440"/>
          </a:xfrm>
        </p:grpSpPr>
        <p:sp>
          <p:nvSpPr>
            <p:cNvPr id="93" name="AutoShape 9"/>
            <p:cNvSpPr/>
            <p:nvPr/>
          </p:nvSpPr>
          <p:spPr>
            <a:xfrm>
              <a:off x="1283760" y="5667120"/>
              <a:ext cx="4882320" cy="83376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0"/>
            <p:cNvSpPr/>
            <p:nvPr/>
          </p:nvSpPr>
          <p:spPr>
            <a:xfrm>
              <a:off x="1269720" y="5661360"/>
              <a:ext cx="3642120" cy="83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11" descr=""/>
            <p:cNvPicPr/>
            <p:nvPr/>
          </p:nvPicPr>
          <p:blipFill>
            <a:blip r:embed="rId1"/>
            <a:stretch/>
          </p:blipFill>
          <p:spPr>
            <a:xfrm>
              <a:off x="785880" y="5525280"/>
              <a:ext cx="3387240" cy="97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2" descr=""/>
            <p:cNvPicPr/>
            <p:nvPr/>
          </p:nvPicPr>
          <p:blipFill>
            <a:blip r:embed="rId2"/>
            <a:stretch/>
          </p:blipFill>
          <p:spPr>
            <a:xfrm>
              <a:off x="785880" y="5520600"/>
              <a:ext cx="335988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3" descr=""/>
            <p:cNvPicPr/>
            <p:nvPr/>
          </p:nvPicPr>
          <p:blipFill>
            <a:blip r:embed="rId3"/>
            <a:stretch/>
          </p:blipFill>
          <p:spPr>
            <a:xfrm>
              <a:off x="1990080" y="2746440"/>
              <a:ext cx="6510600" cy="344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857160"/>
            <a:ext cx="8843760" cy="6000840"/>
            <a:chOff x="0" y="857160"/>
            <a:chExt cx="8843760" cy="6000840"/>
          </a:xfrm>
        </p:grpSpPr>
        <p:sp>
          <p:nvSpPr>
            <p:cNvPr id="99" name="AutoShape 3"/>
            <p:cNvSpPr/>
            <p:nvPr/>
          </p:nvSpPr>
          <p:spPr>
            <a:xfrm>
              <a:off x="499680" y="5807160"/>
              <a:ext cx="4898520" cy="1050480"/>
            </a:xfrm>
            <a:prstGeom prst="pie">
              <a:avLst/>
            </a:prstGeom>
            <a:solidFill>
              <a:srgbClr val="9fca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485640" y="5799960"/>
              <a:ext cx="3654720" cy="10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5628240"/>
              <a:ext cx="3398760" cy="122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5622480"/>
              <a:ext cx="3371400" cy="123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7" descr=""/>
            <p:cNvPicPr/>
            <p:nvPr/>
          </p:nvPicPr>
          <p:blipFill>
            <a:blip r:embed="rId3"/>
            <a:stretch/>
          </p:blipFill>
          <p:spPr>
            <a:xfrm>
              <a:off x="377640" y="857160"/>
              <a:ext cx="8466120" cy="511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лядность: выделение основных сторон, признаков предметов и явлений; демонстрация пособий: сочетание реалистичных и схематичных изображений изучаемых объек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чертежей, модел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е методы обучения: отбор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0008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орные конспекты, сх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 видеофильмы с сурдоперево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е учебные пособия по профессии/специальности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даптированные задания, адаптированный текс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имация с гиперссыл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ные модели, конструкторы, компьютерный и лабораторный практику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письменных и устных средств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ние различными социальными ро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ие представлять и защищать результаты свое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ключение студентов в групповую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языку  как средству общ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остаточного слуха студ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78d5ea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Garamond"/>
              </a:rPr>
              <a:t>Коммуникативный принцип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000080" y="1143000"/>
            <a:ext cx="8042400" cy="4975200"/>
            <a:chOff x="1000080" y="1143000"/>
            <a:chExt cx="8042400" cy="4975200"/>
          </a:xfrm>
        </p:grpSpPr>
        <p:pic>
          <p:nvPicPr>
            <p:cNvPr id="111" name="Picture 3" descr=""/>
            <p:cNvPicPr/>
            <p:nvPr/>
          </p:nvPicPr>
          <p:blipFill>
            <a:blip r:embed="rId1"/>
            <a:stretch/>
          </p:blipFill>
          <p:spPr>
            <a:xfrm>
              <a:off x="1000080" y="1500120"/>
              <a:ext cx="7549560" cy="461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4" descr=""/>
            <p:cNvPicPr/>
            <p:nvPr/>
          </p:nvPicPr>
          <p:blipFill>
            <a:blip r:embed="rId2"/>
            <a:stretch/>
          </p:blipFill>
          <p:spPr>
            <a:xfrm>
              <a:off x="8056440" y="1143000"/>
              <a:ext cx="986040" cy="90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5"/>
          <p:cNvGrpSpPr/>
          <p:nvPr/>
        </p:nvGrpSpPr>
        <p:grpSpPr>
          <a:xfrm>
            <a:off x="500040" y="214200"/>
            <a:ext cx="7929720" cy="928800"/>
            <a:chOff x="500040" y="214200"/>
            <a:chExt cx="7929720" cy="928800"/>
          </a:xfrm>
        </p:grpSpPr>
        <p:sp>
          <p:nvSpPr>
            <p:cNvPr id="115" name="Rectangle 7"/>
            <p:cNvSpPr/>
            <p:nvPr/>
          </p:nvSpPr>
          <p:spPr>
            <a:xfrm>
              <a:off x="500040" y="214200"/>
              <a:ext cx="7929720" cy="928800"/>
            </a:xfrm>
            <a:prstGeom prst="rect">
              <a:avLst/>
            </a:prstGeom>
            <a:solidFill>
              <a:srgbClr val="78d5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" descr=""/>
            <p:cNvPicPr/>
            <p:nvPr/>
          </p:nvPicPr>
          <p:blipFill>
            <a:blip r:embed="rId3"/>
            <a:stretch/>
          </p:blipFill>
          <p:spPr>
            <a:xfrm>
              <a:off x="2842200" y="500400"/>
              <a:ext cx="3263040" cy="43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6T06:13:07Z</dcterms:created>
  <dc:creator>.</dc:creator>
  <dc:description/>
  <dc:language>en-US</dc:language>
  <cp:lastModifiedBy>Лариса</cp:lastModifiedBy>
  <dcterms:modified xsi:type="dcterms:W3CDTF">2024-11-10T14:11:42Z</dcterms:modified>
  <cp:revision>190</cp:revision>
  <dc:subject/>
  <dc:title>Образовательных условия, учитывающие особые образовательные потребности обучающегося с нарушением слуха (глухота)</dc:title>
</cp:coreProperties>
</file>